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30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</p:sldMasterIdLst>
  <p:notesMasterIdLst>
    <p:notesMasterId r:id="rId27"/>
  </p:notesMasterIdLst>
  <p:sldIdLst>
    <p:sldId id="256" r:id="rId28"/>
    <p:sldId id="257" r:id="rId29"/>
    <p:sldId id="258" r:id="rId30"/>
    <p:sldId id="259" r:id="rId31"/>
    <p:sldId id="260" r:id="rId32"/>
    <p:sldId id="261" r:id="rId33"/>
    <p:sldId id="262" r:id="rId34"/>
    <p:sldId id="263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notesMaster" Target="notesMasters/notesMaster1.xml"/><Relationship Id="rId28" Type="http://schemas.openxmlformats.org/officeDocument/2006/relationships/slide" Target="slides/slide1.xml"/><Relationship Id="rId29" Type="http://schemas.openxmlformats.org/officeDocument/2006/relationships/slide" Target="slides/slide2.xml"/><Relationship Id="rId30" Type="http://schemas.openxmlformats.org/officeDocument/2006/relationships/slide" Target="slides/slide3.xml"/><Relationship Id="rId31" Type="http://schemas.openxmlformats.org/officeDocument/2006/relationships/slide" Target="slides/slide4.xml"/><Relationship Id="rId32" Type="http://schemas.openxmlformats.org/officeDocument/2006/relationships/slide" Target="slides/slide5.xml"/><Relationship Id="rId33" Type="http://schemas.openxmlformats.org/officeDocument/2006/relationships/slide" Target="slides/slide6.xml"/><Relationship Id="rId34" Type="http://schemas.openxmlformats.org/officeDocument/2006/relationships/slide" Target="slides/slide7.xml"/><Relationship Id="rId35" Type="http://schemas.openxmlformats.org/officeDocument/2006/relationships/slide" Target="slides/slide8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 type="dt" idx="7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move the slid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5"/>
          <p:cNvSpPr>
            <a:spLocks noGrp="1"/>
          </p:cNvSpPr>
          <p:nvPr>
            <p:ph type="ftr" idx="7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PlaceHolder 6"/>
          <p:cNvSpPr>
            <a:spLocks noGrp="1"/>
          </p:cNvSpPr>
          <p:nvPr>
            <p:ph type="sldNum" idx="7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AB5D0-65F6-4D15-8DA1-E35DAE6822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DD4A7-6F7F-412B-8DED-718E198A01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3BFEE-7CAA-4373-BB46-96A8B64D41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5328A8-D764-4CC3-AB49-48A591479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C0A480-5F22-496A-BE39-B4E35FEF9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2641C8-E392-4A63-85B3-4FC9D019A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DA2A2E-E0FA-414E-8EEE-5564D8865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3A7318-8B87-48C3-9969-C541E53D9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B90DE7-93D8-4D99-BD6D-364398477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2E0264-BE3D-4585-8D0C-3EA6E08BA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27145A-C814-45F9-83AB-48A6AB8DE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3E4BA9-74DA-48C6-AB01-710A05DCB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CC70D6-57F5-4642-A9F2-044DA4CA8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EB01BA-7FF7-463D-9B0D-E36CAC20B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22B0A4-01C6-4E81-8F68-1532754F6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CD3484-00A6-4237-BAFA-73E1DC522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4CDE03-E954-470D-A58E-6EC914C45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5E3FCA-5497-44BC-9855-A674F8CF4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603CEE-EF05-4C94-910D-3F7DE6988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47E04F-06BE-4FB9-A43A-6C89D2F06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D9ABEC-EE02-4774-AFCE-BF7077F38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C85DC5-BCE0-4754-B476-7306AA23A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59E873-089C-473F-9C65-57CF1B13E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9B42F5-FA11-4DBC-97C7-797355E77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9155DF-17F5-461D-820A-1DD6C8916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A73794-035A-4C19-B305-469B8B258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7474F0-082E-4680-88C8-A86A2E036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77664B-DF31-4015-BD27-33D7BBDD2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1B806F0-3E0D-4ECC-AD3F-DF32A1CAB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9F09715-D96B-43C7-A12E-F8420128F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BD4C602-9688-4827-AE39-F35F10140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E53C6EB-1387-4D8E-A98B-0AC9BFCA8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DE5D43E-26D9-4A96-8701-AF08467FD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4AC4C99-4610-48AE-BB8B-2997EBBAF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5191899-8BC7-4B08-A345-A4575281C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7DACBAD-29FF-44EB-A96A-E38BCD0CB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B1C7761-D3A5-4A7F-B815-D1F8A322C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0B409-789D-4280-8EF9-233780898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593002A-C169-43B0-9DB8-0B41E1565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73A7130-A328-4536-82F8-C03A1A0B0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61B492B-4800-4BC4-92A2-8F6B66386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5E6252-0C0A-442E-9395-A25BAC2BE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1E959C-085F-4754-80FC-83AB13179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0851AC-9ED8-4D18-81EB-FEDDA97EA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DF6939-1871-44A5-A97D-4FB9369D7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B4AD28-8EDC-4BF8-B932-DEF4C3F53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B331D5-710C-4D96-B4FA-3FB1CABF9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EE9F81-90E6-4984-AF3D-2E2DB4777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9BF58-E294-4397-8634-D214B4028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982727-9E20-4290-AD58-62C645DD5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10E868-DC92-4AEF-8FF5-F58AE8098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BF1E89-C719-418C-A889-D9BAC0747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DBEE50-8CD7-4039-B44B-EB6387A0A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E0DB38-B6E0-4726-B432-AC5C333E3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5AFEBDC-35DB-4026-B747-3A498FA74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3993581-8260-4C0A-9630-06F768FAD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C4E0B95-20AD-45D9-8A6F-9F8AAE141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066E835-0906-453C-8C0E-F35C4D5D1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FF81BF5-8E0E-4D91-AE89-524FED48F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D4DA8-8AFA-42C2-AFDF-467FA27A2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473EAEF-679F-4825-B16E-37E28AE63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B969288-BBF5-4A13-80EA-54DB444F8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FAF7BDD-4529-45E8-8C19-81E653569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C417457-7AC6-4869-AE3D-9A3EC16B5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3D39B12-C8DC-41B6-9072-A7BC154D2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F315CC9-018B-4C60-B321-5AF659DC5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D89B9BE-EBDD-4475-AB8B-4DBC41D15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6F167FB-4B7D-4848-838F-31ED2EDDD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A56F9C1-87A7-42B4-B596-737C691CF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3110930-E5E9-45CC-ACFA-93702FB04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41049-7E65-4AC4-9F70-06C0554B5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3A7786A-4A69-4F99-817C-CC8865441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3C002A7-89A9-408D-BD44-3B7B32129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FAC4A5F-8392-49B9-AD81-31993028C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77108E1-B90F-49F7-8198-D9E9A88DA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92E59A0-272C-42F2-91F6-E84FE3A12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1A902C0-4C71-4BD7-AD10-6F055395A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BA24801-78CC-451E-A787-0F5D61707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7F1439E-D6DE-4ED4-9DA8-726811A66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2BB94DD-B7B4-4374-853F-725ABE145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585437C-7DF6-4938-8F52-A34EC1018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F7303-902E-45D5-A8DB-D1ABCA408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3EB9EE2-E9FC-494A-8294-76CDB7B71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51A3769-2691-40E1-B409-36BD453DB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3718D06-79CB-4450-A29F-34D8150FC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9C38423-2E48-4166-BAAD-48B370B77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698E107-5B17-4E3F-9363-CFCD56400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054D726-629F-4AA7-B756-CEAF51546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8214647-8D2B-400A-A580-4CC878940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C4DF704-1FEB-4D17-A65C-2DC84E9E6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83E56EE-6E61-494C-8CB3-1D081A6FD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86024C9-619C-446B-A2EE-89420B4C8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3AB8C-C70A-4AC8-B1FB-FB40A20CC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8F72BA1-A721-40C1-AE4F-C5194320F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C3238A2-858A-45BE-B462-C88FCA9C4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AA628DC-A8B4-4D86-8499-AD2C09899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E37A779-ADC4-46DD-AFFB-6F835DA82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262AD48-6F98-462A-B086-995FDBB09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71D8F92-F09B-46B2-A73C-3E7CDD4BA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7A85AEE-96E0-4416-A82B-3652C8E50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1960280-9AFA-459E-AA4F-20404EEA4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6A43EFC-8736-4EF9-9DC9-81E9C22EF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4E336F2-F916-4A04-A1A0-3ACC6EC33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B0BCA-9E73-42E3-902E-D79908096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BFA5367-161F-4F53-917F-AD2F71956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FBDF5502-01E3-4BAC-8ED8-739F6637B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24CE950-461A-4DB0-B022-26FF5083C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FEC8001-26C3-42CA-9DB4-5A2D7A198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18EC8AF-F22D-4269-873F-14FD94F37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6E3D3AAC-58F6-4BAA-BA0A-D1B99A791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697D3FE-54D3-4559-B367-B86E18A34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0C4F6C3F-0A6C-4A94-9DDE-F8CF0DCC9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72BE6FA4-1AFB-453B-B880-50156427F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F122D3A-1AEF-4417-B83A-760CFA283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53FDA0-BA15-4F63-9880-61320AFC3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E352F-2714-4696-94CD-84D873244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452221FD-F86A-49EB-BA69-07C1EB1EF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56E01C94-4724-4B9B-B094-8ED4CEA4C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B11F8BA-BFD6-4984-988C-2033005B2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3FADB34-79FE-452C-8EDE-482662055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9E718539-3D6F-4E87-A719-2A5530FB8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BFFEFC89-154E-43D1-9744-979E1B3F7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1C1726EA-9A61-4AD7-856C-685F17711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1E81F3A8-06FF-4190-964C-49304C766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8AE540BD-4967-4907-90D8-315FB5F29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FC7A7E8C-8907-4F7C-8ECF-FC3C940CB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EB712-5FD0-48BD-916C-F4A0E8916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77DD487B-01BE-44B2-9B7A-CDB89AE39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3890184B-B091-4FB7-B307-71003CBE1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29E53E55-2FFB-4BC4-94E5-5F93D74B0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E8242C5A-4090-4802-8007-3EF5DFC3B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F3467ED7-B8BF-4401-9982-4DA5E8E60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E8E23955-D276-4434-BF47-6DD93A125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C4B38D7A-7801-47F8-91AF-9C857DEFF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07DC106D-D765-49C5-BFD7-E11A01992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DE3FF51B-66DC-4C97-A472-6E2C2870C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2963764F-A1D1-40B8-BDD2-3CF2607C3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EEA98-3B52-454B-B3C6-B9C2C9CB9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CCA07A80-0247-4487-82D2-9B591899C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2F75FA3F-6DDF-4878-8739-1988DBAC3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47BA9846-366A-47C9-AE69-0B4800791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8058C668-4F45-4935-8F99-C36B112C9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A00DDB76-91A8-4A42-825E-BAB8C2400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8E9EBDB4-1DBF-4661-91D9-674DAF130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AE966A24-3C2D-435F-9DDF-49932A74E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AAFDED4E-BA54-4627-8AC9-83C56A474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C2000198-1C8A-4B2A-B59A-AA33C1C72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F61EF634-1EE8-4832-9077-D87E4B14F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31CEA-25FA-44DC-B26A-E6E1CBDFA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01707B21-4054-4701-9C23-ECAF05BB6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6B08EE9C-1E29-49E4-A411-8600CC29F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B9C406ED-DE06-4E37-96CC-2D50B5BE6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CE814D2B-C763-4AC1-9DB2-20F53C701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A3C76396-E86F-4221-A84D-23768E44E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979F0B41-AC06-4A6D-8912-AF6C59514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E518D40D-62C9-4FED-93C6-1322CE120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F1747A7F-E3DD-4F2B-BE6F-95B9864A9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673B5748-8CEA-49D5-8538-09A409C21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17246DA5-2EA1-48AA-B11C-8B320A103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60317-99EA-42E0-9E62-A486806FF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04600381-174A-4D49-8BD1-C6D7AF357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545B772E-714D-47E1-852E-B4861FC01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B1337D1F-635B-42CD-A9EA-89901FBE3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C86D7775-8A47-4634-B025-C36D788EE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5FE6A2D6-C5D8-4C7D-A55B-1DA8DEF94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C371D19C-7083-4B60-9D68-E9FA56F8F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FAA44AD7-C253-4CD0-AE3D-1584ECF21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D1234D98-2C15-407F-A2B1-561C9F60E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28C45E96-D29A-40E3-A947-4F440665A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282F7BE2-E058-42E8-9E89-9D1B5CC25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1A24DA9-5BA2-4DDE-9858-0318C927CFC1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E5712F9C-7781-49B6-9750-92E150FFE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73341ACF-41BE-4717-B3C3-B316167AE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B4E71067-9ABC-4A58-A241-CC4CDF115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FD9F2FE0-20CC-42F0-B4B1-76A8094BC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96EDCC88-8B5E-4946-A4B6-E13FAF55A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F4722C4E-28C1-4F4C-8D39-DE559E52E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948D5BF7-A656-4D6B-A7F1-DEE0AFFCE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7A092120-89DC-439B-8A17-0FFF2F265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8B5C5DDB-BFEC-481D-B48F-DCD9809BC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1E45C79E-F56B-4532-9E2E-BC354539D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E474A46-F622-4E02-A09A-C9D55AD06CD8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A238D23A-B5F1-4A99-9581-70F39FD6D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CA49FBC9-A130-4DBD-B40B-B1248A29D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CD879142-938C-4CD9-99B3-69DBD77CB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ABC020DB-2781-44E5-B1C2-A4051D635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35B2E78A-B259-4AD1-BDB2-C83BB3CA2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C0766133-8A4D-425A-BE48-634513F2D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07FF578A-B1B1-4BB6-BD3C-A1ACC774F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72DCC099-3B76-4D14-BD04-2BE29494F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85686D4A-D74F-4682-B287-EE2944828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81D42A74-1CE3-4914-B974-893376835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AE00E53-7B89-4B78-A66E-2CA02D9C2627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4CA61A44-03B7-442B-9831-D6C811EDC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02244000-F802-484D-A4D4-46C497CD5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7A915DC6-340C-4038-8354-AB45A7D27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BC07C4A3-85F7-4134-B023-82B485537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307BE976-006E-4EFC-A238-8A40E9A4D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DB02F6D9-8C94-4F14-A841-A5FEF0FA4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033624B7-FC92-46CD-98A6-E67E91315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0D913E0E-F787-440A-BED2-36DD70B6A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59725DDD-469F-4767-A417-2D5410277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32F8D3AC-6483-40EE-B19B-8298490AC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2028AB9-18F9-4F55-8673-C80CC0AC0607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6F2F278F-D602-47EC-A706-54D334873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FEAEA0D0-9A7E-4213-BD95-D50FC1903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AD7F95F7-DE7A-4D4F-B2F2-E3E56747B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9FEFD988-877B-4AAB-945C-F06D2E9D4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22190C15-975E-48C5-9A81-EF69DA346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1769C074-ED2B-4094-8D7E-E501381FF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CA5A4993-C4E9-4C0B-A999-AC6BA0421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26CABCD6-B798-4752-8759-3859B742E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415A8105-5779-4BCB-A368-C71932A29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8E9A0F6-5AE1-4FB8-AEE2-98222575764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CED8415-7206-4CCF-BF70-823F9383A6A9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18EEAE7-64CB-4F9F-945D-C3E1AD6C1F58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2DC4F56-F801-4ACC-90F8-DEC53F5F69B6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201D4EB-73D5-4C3C-B0F2-3E1ADEA0BD6C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54C0930-D523-413E-8C52-8B6A15176B4B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9F177F2-6923-40E0-BE43-59FE0C481364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363628F-D824-4A43-9E1D-E8A9F6FE99DC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20B70E7-4DAD-44F6-A44E-B8F7559844F9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6169CEF-D134-406D-9A7A-6EE83142862D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D3A21D6-C9F0-4275-9273-CB67BE956A97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C1243D8-A4AF-41ED-8989-E4F1EF6D413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FE451-049B-4C44-BBAA-FA6FDC133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48CD6FD-242A-4CFE-83EB-BDB18BEC6639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BD9C2C8-1149-4072-B763-F9251A6E8BE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0707499-238A-46B5-AAA6-4D67F921174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D62F148-80BC-4D18-90F9-C54DBCE79E6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68E6F74-4D36-4CB0-8470-FADDD4029D6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460D683-B1E7-4314-99E8-FCF0633C011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26D430C-EE9E-47B1-A042-C704F6DDA1E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19B7076-6CB5-4803-8FE0-902A0A77D7A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F4342ED-5FE0-419B-B67F-0F16D7319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E2F90E2-2A97-402F-92A3-7DB4D79B4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62CCC8B-2300-4DB1-9CD2-2D4234F80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B1A5F4-0004-4221-ACF1-E96A50EC8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2DDA6FE-6015-4C78-A621-3FCBCC192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E5C664E-DEE8-4970-8DDB-954ADC91D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71C26F0-1CD1-4433-9EA7-3C7685E8E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E75EDA2-912F-4945-9460-8D1D00DA6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073A040-C452-4340-9EEB-5076CC698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E9E80CA-4EBE-44B3-A9BE-9EA727BCA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3AB738F-6B7F-4256-A652-4DC45F12C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C991740-8A52-464B-A90E-68CBC2E34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98DB303-ADCE-4CEF-8452-B7AC88463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69DDE82-9D74-4EDD-AE00-8526EF929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1DFABB-41E1-4631-B11A-9072646DF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A0D9D6C-F2D2-4444-883E-54BAF48DC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E2D68C3-6C25-4294-8ED2-84C3CD47B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7288C1D-4297-4F62-8DE3-BF4D35470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6378465-EDA3-4035-85B3-B2EB5ACEC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06B71F4-59C9-491F-B9E2-EAD9DFD00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76AD947-A8AA-426B-B6E8-16C914075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6806249-02EF-45F6-BCC8-F3E46DE50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B6901DE-A85B-49D0-9124-AA12C22AC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33444E4-829F-41B9-9773-40C4EE8AA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701C634-211E-47A7-B14B-09695E377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A14390-466C-4664-A718-9ADBEAE70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CECE7AB-5B20-429E-A01E-029288A13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7F89E1B-C0AB-4A07-910E-C070C588D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FBE03C4-AC81-4A0F-8D23-ACBE6015E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5536051-DB98-48C6-956E-ED2658E90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93A8049-9086-40E1-B227-0B524A44A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89022EB-3171-445F-937C-9ED2CCD9A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5650752-9DBC-43A9-A7B6-6F72AD45A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295C10C-9668-4431-BC8F-929E2CFE0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3D80573-3067-41F0-8A87-2DF87858C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33E31C5-E34B-44D4-B605-010373F5B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8ABC6D-0EDF-4D15-A116-910CC8EF3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E5F9DC8-904C-4619-9B69-6ECD61AF2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30853E5-3FBD-4441-A22F-EF6AB4CAA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5199BC4-5CEB-45A5-8E43-320CD2645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7C25DE2-F1F2-43AF-88C3-24A879256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A086B97-C1B6-43A9-A897-A3F9C9BF0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4DF4C0E-5791-466E-8E81-94CEA1F1A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BA652D0-B6F7-4E70-938B-347BE059D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CF10760-174B-458C-AE12-7D84C8BA2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CDA725A-CB64-4135-8714-C78F72ED4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DE15C60-ABFA-4CAD-BB6A-C6F9C2558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1BE5DE-4DD8-4529-9C59-A20C74C88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F818CC8-1C19-4934-9E52-E29109FC6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B20900B-FB8B-4F02-BC70-3D1F7D83B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D575817-91A7-4657-A82D-2582E2DE9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58A5A4E-CA16-43E2-B665-37480C022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819076C-2669-4989-B5E8-E9FE0DCA5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5442816-D6ED-4886-877D-F68055801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27586AE-A259-43CD-BA96-3E83ABAE9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0D7DBB1-73D7-4D6A-9432-7E0E0C674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062AE27-3556-43AD-843C-07A3F2A2C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CC2B69A-9517-405D-BB1F-C9ABED698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657BBE-1537-4F66-84AB-348D0411D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19B667A-CC45-42BB-ACD6-CCA120864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F0E1877-89F3-4A2C-8CCE-305C37F65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722CACB-4231-45BE-A3E7-FC55B2FBF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5A3BCEC-F842-40C1-81EF-42D473F8B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AFB86F4-8166-425F-AA03-1B5C7FFFF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0D03293-86B2-4C5F-83AF-55F3A420D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C88DF04-8176-4B26-83CF-03BF3F305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72D292-545E-408E-AD39-E9ECAC6B1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EDE50C-4CF9-40B7-9424-E316B6534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E89D63-9030-47C2-BD1B-88745CBF2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left_bar art"/>
          <p:cNvPicPr/>
          <p:nvPr/>
        </p:nvPicPr>
        <p:blipFill>
          <a:blip r:embed="rId3"/>
          <a:stretch/>
        </p:blipFill>
        <p:spPr>
          <a:xfrm>
            <a:off x="0" y="0"/>
            <a:ext cx="2514600" cy="70866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4040" y="6244920"/>
            <a:ext cx="1676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CAF70-12BF-4254-B4E4-99D62E005FD0}" type="slidenum">
              <a:rPr b="0" lang="en-US" sz="1400" spc="-1" strike="noStrike">
                <a:solidFill>
                  <a:srgbClr val="99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2666880" y="6381360"/>
            <a:ext cx="3810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7"/>
          </p:nvPr>
        </p:nvSpPr>
        <p:spPr>
          <a:xfrm>
            <a:off x="914040" y="6244920"/>
            <a:ext cx="1676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sldNum" idx="28"/>
          </p:nvPr>
        </p:nvSpPr>
        <p:spPr>
          <a:xfrm>
            <a:off x="655272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45A50-B6AA-4C29-BCE0-0B239F63D974}" type="slidenum">
              <a:rPr b="0" lang="en-US" sz="1400" spc="-1" strike="noStrike">
                <a:solidFill>
                  <a:srgbClr val="99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ftr" idx="29"/>
          </p:nvPr>
        </p:nvSpPr>
        <p:spPr>
          <a:xfrm>
            <a:off x="2666880" y="6381360"/>
            <a:ext cx="3810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30"/>
          </p:nvPr>
        </p:nvSpPr>
        <p:spPr>
          <a:xfrm>
            <a:off x="914040" y="6244920"/>
            <a:ext cx="1676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sldNum" idx="31"/>
          </p:nvPr>
        </p:nvSpPr>
        <p:spPr>
          <a:xfrm>
            <a:off x="655272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78375-056A-4227-9628-FB76A6B7E961}" type="slidenum">
              <a:rPr b="0" lang="en-US" sz="1400" spc="-1" strike="noStrike">
                <a:solidFill>
                  <a:srgbClr val="99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ftr" idx="32"/>
          </p:nvPr>
        </p:nvSpPr>
        <p:spPr>
          <a:xfrm>
            <a:off x="2666880" y="6381360"/>
            <a:ext cx="3810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 type="dt" idx="33"/>
          </p:nvPr>
        </p:nvSpPr>
        <p:spPr>
          <a:xfrm>
            <a:off x="914040" y="6244920"/>
            <a:ext cx="1676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 type="sldNum" idx="34"/>
          </p:nvPr>
        </p:nvSpPr>
        <p:spPr>
          <a:xfrm>
            <a:off x="655272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4741F-C560-4A12-8C57-A667B386B09C}" type="slidenum">
              <a:rPr b="0" lang="en-US" sz="1400" spc="-1" strike="noStrike">
                <a:solidFill>
                  <a:srgbClr val="99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 type="ftr" idx="35"/>
          </p:nvPr>
        </p:nvSpPr>
        <p:spPr>
          <a:xfrm>
            <a:off x="2666880" y="6381360"/>
            <a:ext cx="3810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 type="dt" idx="36"/>
          </p:nvPr>
        </p:nvSpPr>
        <p:spPr>
          <a:xfrm>
            <a:off x="914040" y="6244920"/>
            <a:ext cx="1676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 type="sldNum" idx="37"/>
          </p:nvPr>
        </p:nvSpPr>
        <p:spPr>
          <a:xfrm>
            <a:off x="655272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047DA-C391-42B4-8BC4-B4CC11EB05BF}" type="slidenum">
              <a:rPr b="0" lang="en-US" sz="1400" spc="-1" strike="noStrike">
                <a:solidFill>
                  <a:srgbClr val="99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 type="ftr" idx="38"/>
          </p:nvPr>
        </p:nvSpPr>
        <p:spPr>
          <a:xfrm>
            <a:off x="2666880" y="6381360"/>
            <a:ext cx="3810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 type="dt" idx="39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 type="ftr" idx="40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 type="sldNum" idx="41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4215B-085E-4316-9A7D-97C41982E3D4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 type="dt" idx="4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 type="ftr" idx="4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 type="sldNum" idx="4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CD101-8DC7-4852-8674-7C9ED05F6296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Rectangle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 type="dt" idx="45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 type="ftr" idx="46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 type="sldNum" idx="47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CD857-9874-498F-8797-8CC800F1BA8E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 type="dt" idx="48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 type="ftr" idx="49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5"/>
          <p:cNvSpPr>
            <a:spLocks noGrp="1"/>
          </p:cNvSpPr>
          <p:nvPr>
            <p:ph type="sldNum" idx="50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7EE45-7BD9-4C90-947D-88131C2B4794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 type="dt" idx="5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 type="ftr" idx="5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 type="sldNum" idx="5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AD462-B794-44F3-8653-1CA182FC37A7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Isosceles Triangle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 type="dt" idx="54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 type="ftr" idx="55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 type="sldNum" idx="56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55788-8D8B-4F2F-95B6-E39383A3A34E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9F73D-0E6E-4969-90C6-8EC417A2F9D1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left_bar art"/>
          <p:cNvPicPr/>
          <p:nvPr/>
        </p:nvPicPr>
        <p:blipFill>
          <a:blip r:embed="rId3"/>
          <a:stretch/>
        </p:blipFill>
        <p:spPr>
          <a:xfrm>
            <a:off x="0" y="0"/>
            <a:ext cx="2514600" cy="7086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 type="dt" idx="57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 type="ftr" idx="58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 type="sldNum" idx="59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7A27F-9C30-473F-AF8D-E288B7AE32F0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Straight Connector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Isosceles Triangle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 type="dt" idx="6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 type="ftr" idx="6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 type="sldNum" idx="6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869B5-FD07-4A92-B6DF-B65C0D25C1A0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Rectangle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 type="dt" idx="6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 type="ftr" idx="6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 type="sldNum" idx="6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005D6-9679-49C3-AF63-FC412EA21105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 type="dt" idx="6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 type="ftr" idx="6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5"/>
          <p:cNvSpPr>
            <a:spLocks noGrp="1"/>
          </p:cNvSpPr>
          <p:nvPr>
            <p:ph type="sldNum" idx="6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28AFA-1D58-401D-9411-CC459C54F064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Straight Connector 12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 type="dt" idx="6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 type="ftr" idx="7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5"/>
          <p:cNvSpPr>
            <a:spLocks noGrp="1"/>
          </p:cNvSpPr>
          <p:nvPr>
            <p:ph type="sldNum" idx="7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C205F-C73E-4784-9AF0-737E035DD415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2" name="Picture 2" descr="left_bar art"/>
          <p:cNvPicPr/>
          <p:nvPr/>
        </p:nvPicPr>
        <p:blipFill>
          <a:blip r:embed="rId3"/>
          <a:stretch/>
        </p:blipFill>
        <p:spPr>
          <a:xfrm>
            <a:off x="0" y="0"/>
            <a:ext cx="2514600" cy="7086600"/>
          </a:xfrm>
          <a:prstGeom prst="rect">
            <a:avLst/>
          </a:prstGeom>
          <a:ln w="0">
            <a:noFill/>
          </a:ln>
        </p:spPr>
      </p:pic>
      <p:sp>
        <p:nvSpPr>
          <p:cNvPr id="1013" name="Rectangle 7"/>
          <p:cNvSpPr/>
          <p:nvPr/>
        </p:nvSpPr>
        <p:spPr>
          <a:xfrm>
            <a:off x="1905120" y="5715000"/>
            <a:ext cx="6400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Rectangle 9"/>
          <p:cNvSpPr/>
          <p:nvPr/>
        </p:nvSpPr>
        <p:spPr>
          <a:xfrm>
            <a:off x="1828800" y="5105520"/>
            <a:ext cx="6400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Third Editio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Rectangle 10"/>
          <p:cNvSpPr/>
          <p:nvPr/>
        </p:nvSpPr>
        <p:spPr>
          <a:xfrm>
            <a:off x="1828800" y="3886200"/>
            <a:ext cx="6400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ELECTRONIC COMMERCE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Rectangle 11"/>
          <p:cNvSpPr/>
          <p:nvPr/>
        </p:nvSpPr>
        <p:spPr>
          <a:xfrm>
            <a:off x="1828800" y="4343400"/>
            <a:ext cx="6400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From Vision to Fulfillment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CB492-2897-4239-8109-A839AC1A9E18}" type="slidenum"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 type="ftr" idx="73"/>
          </p:nvPr>
        </p:nvSpPr>
        <p:spPr>
          <a:xfrm>
            <a:off x="3124080" y="6244920"/>
            <a:ext cx="33530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left_bar art"/>
          <p:cNvPicPr/>
          <p:nvPr/>
        </p:nvPicPr>
        <p:blipFill>
          <a:blip r:embed="rId3"/>
          <a:stretch/>
        </p:blipFill>
        <p:spPr>
          <a:xfrm>
            <a:off x="0" y="0"/>
            <a:ext cx="2514600" cy="708660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7"/>
          <p:cNvSpPr/>
          <p:nvPr/>
        </p:nvSpPr>
        <p:spPr>
          <a:xfrm>
            <a:off x="1905120" y="5715000"/>
            <a:ext cx="6400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1828800" y="5791320"/>
            <a:ext cx="6400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Elias M. Awad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9"/>
          <p:cNvSpPr/>
          <p:nvPr/>
        </p:nvSpPr>
        <p:spPr>
          <a:xfrm>
            <a:off x="1828800" y="5105520"/>
            <a:ext cx="6400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Third Editio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0"/>
          <p:cNvSpPr/>
          <p:nvPr/>
        </p:nvSpPr>
        <p:spPr>
          <a:xfrm>
            <a:off x="1828800" y="3886200"/>
            <a:ext cx="6400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ELECTRONIC COMMERCE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1"/>
          <p:cNvSpPr/>
          <p:nvPr/>
        </p:nvSpPr>
        <p:spPr>
          <a:xfrm>
            <a:off x="1828800" y="4343400"/>
            <a:ext cx="6400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From Vision to Fulfillment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CA246-A53C-4C01-BCF9-CA7C1BFBFB49}" type="slidenum"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33530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9"/>
          </p:nvPr>
        </p:nvSpPr>
        <p:spPr>
          <a:xfrm>
            <a:off x="914040" y="6244920"/>
            <a:ext cx="1676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sldNum" idx="10"/>
          </p:nvPr>
        </p:nvSpPr>
        <p:spPr>
          <a:xfrm>
            <a:off x="655272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3196B-A51B-4A6E-A56C-4FB7E842F12C}" type="slidenum">
              <a:rPr b="0" lang="en-US" sz="1400" spc="-1" strike="noStrike">
                <a:solidFill>
                  <a:srgbClr val="99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11"/>
          </p:nvPr>
        </p:nvSpPr>
        <p:spPr>
          <a:xfrm>
            <a:off x="2666880" y="6381360"/>
            <a:ext cx="3810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2"/>
          </p:nvPr>
        </p:nvSpPr>
        <p:spPr>
          <a:xfrm>
            <a:off x="914040" y="6244920"/>
            <a:ext cx="1676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sldNum" idx="13"/>
          </p:nvPr>
        </p:nvSpPr>
        <p:spPr>
          <a:xfrm>
            <a:off x="655272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065C8-4AB8-4A83-8D3D-FE65AAB5A9DB}" type="slidenum">
              <a:rPr b="0" lang="en-US" sz="1400" spc="-1" strike="noStrike">
                <a:solidFill>
                  <a:srgbClr val="99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ftr" idx="14"/>
          </p:nvPr>
        </p:nvSpPr>
        <p:spPr>
          <a:xfrm>
            <a:off x="2666880" y="6381360"/>
            <a:ext cx="3810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5"/>
          </p:nvPr>
        </p:nvSpPr>
        <p:spPr>
          <a:xfrm>
            <a:off x="914040" y="6244920"/>
            <a:ext cx="1676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sldNum" idx="16"/>
          </p:nvPr>
        </p:nvSpPr>
        <p:spPr>
          <a:xfrm>
            <a:off x="655272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6C35B-8085-40AC-B081-5F474D9E39CE}" type="slidenum">
              <a:rPr b="0" lang="en-US" sz="1400" spc="-1" strike="noStrike">
                <a:solidFill>
                  <a:srgbClr val="99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7"/>
          </p:nvPr>
        </p:nvSpPr>
        <p:spPr>
          <a:xfrm>
            <a:off x="2666880" y="6381360"/>
            <a:ext cx="3810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18"/>
          </p:nvPr>
        </p:nvSpPr>
        <p:spPr>
          <a:xfrm>
            <a:off x="914040" y="6244920"/>
            <a:ext cx="1676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sldNum" idx="19"/>
          </p:nvPr>
        </p:nvSpPr>
        <p:spPr>
          <a:xfrm>
            <a:off x="655272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37CC8-CE1A-48BF-A7F1-A10B7D68B932}" type="slidenum">
              <a:rPr b="0" lang="en-US" sz="1400" spc="-1" strike="noStrike">
                <a:solidFill>
                  <a:srgbClr val="99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ftr" idx="20"/>
          </p:nvPr>
        </p:nvSpPr>
        <p:spPr>
          <a:xfrm>
            <a:off x="2666880" y="6381360"/>
            <a:ext cx="3810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dt" idx="21"/>
          </p:nvPr>
        </p:nvSpPr>
        <p:spPr>
          <a:xfrm>
            <a:off x="914040" y="6244920"/>
            <a:ext cx="1676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 type="sldNum" idx="22"/>
          </p:nvPr>
        </p:nvSpPr>
        <p:spPr>
          <a:xfrm>
            <a:off x="655272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6CB64-1A47-4979-91CC-BB8F714BEEE0}" type="slidenum">
              <a:rPr b="0" lang="en-US" sz="1400" spc="-1" strike="noStrike">
                <a:solidFill>
                  <a:srgbClr val="99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 type="ftr" idx="23"/>
          </p:nvPr>
        </p:nvSpPr>
        <p:spPr>
          <a:xfrm>
            <a:off x="2666880" y="6381360"/>
            <a:ext cx="3810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dt" idx="24"/>
          </p:nvPr>
        </p:nvSpPr>
        <p:spPr>
          <a:xfrm>
            <a:off x="914040" y="6244920"/>
            <a:ext cx="1676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 type="sldNum" idx="25"/>
          </p:nvPr>
        </p:nvSpPr>
        <p:spPr>
          <a:xfrm>
            <a:off x="655272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CAE4C-7987-43EB-95F6-B63D6ACFD461}" type="slidenum">
              <a:rPr b="0" lang="en-US" sz="1400" spc="-1" strike="noStrike">
                <a:solidFill>
                  <a:srgbClr val="99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 type="ftr" idx="26"/>
          </p:nvPr>
        </p:nvSpPr>
        <p:spPr>
          <a:xfrm>
            <a:off x="2666880" y="6381360"/>
            <a:ext cx="3810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9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6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Rectangl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9BF11-57D9-4538-890F-DE8F8273A8A9}" type="slidenum">
              <a:rPr b="0" i="1" lang="en-US" sz="1400" spc="-1" strike="noStrike">
                <a:solidFill>
                  <a:srgbClr val="99663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Rectangle 12"/>
          <p:cNvSpPr/>
          <p:nvPr/>
        </p:nvSpPr>
        <p:spPr>
          <a:xfrm>
            <a:off x="3124080" y="6245280"/>
            <a:ext cx="3353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Rectangle 7"/>
          <p:cNvSpPr/>
          <p:nvPr/>
        </p:nvSpPr>
        <p:spPr>
          <a:xfrm>
            <a:off x="380880" y="2286000"/>
            <a:ext cx="8686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Arial"/>
              </a:rPr>
              <a:t>Chapter 11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Arial"/>
              </a:rPr>
              <a:t>Drivers of online-selling diffusion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53"/>
                </a:solidFill>
                <a:latin typeface="Bookman Old Style"/>
              </a:rPr>
              <a:t>Learning objectives</a:t>
            </a:r>
            <a:endParaRPr b="0" lang="en-US" sz="40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The chapter will discuss the following concepts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9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63667-FA29-4D63-A00D-71E0309910C6}" type="slidenum">
              <a:rPr b="0" i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53"/>
                </a:solidFill>
                <a:latin typeface="Bookman Old Style"/>
              </a:rPr>
              <a:t>Introduction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71" name=""/>
          <p:cNvSpPr txBox="1"/>
          <p:nvPr/>
        </p:nvSpPr>
        <p:spPr>
          <a:xfrm>
            <a:off x="457200" y="123516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100" spc="-1" strike="noStrike">
                <a:solidFill>
                  <a:srgbClr val="464653"/>
                </a:solidFill>
                <a:latin typeface="Gill Sans MT"/>
              </a:rPr>
              <a:t>Ecommerce has been on the rise, however, there are still certain pockets where the concept is in its infancy stage</a:t>
            </a:r>
            <a:endParaRPr b="0" lang="en-US" sz="21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100" spc="-1" strike="noStrike">
                <a:solidFill>
                  <a:srgbClr val="464653"/>
                </a:solidFill>
                <a:latin typeface="Gill Sans MT"/>
              </a:rPr>
              <a:t>Marketers should know the factors that impact the online sale</a:t>
            </a:r>
            <a:endParaRPr b="0" lang="en-US" sz="2100" spc="-1" strike="noStrike">
              <a:solidFill>
                <a:srgbClr val="464653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Gill Sans MT"/>
              </a:rPr>
              <a:t>This helps in strategizing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Gill Sans MT"/>
              </a:rPr>
              <a:t>Prioritizing their resource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Gill Sans MT"/>
              </a:rPr>
              <a:t>Preparing a roadmap for their products and service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100" spc="-1" strike="noStrike">
                <a:solidFill>
                  <a:srgbClr val="464653"/>
                </a:solidFill>
                <a:latin typeface="Gill Sans MT"/>
              </a:rPr>
              <a:t>The factors are </a:t>
            </a:r>
            <a:r>
              <a:rPr b="0" lang="en-GB" sz="2000" spc="-1" strike="noStrike">
                <a:solidFill>
                  <a:srgbClr val="464653"/>
                </a:solidFill>
                <a:latin typeface="Gill Sans MT"/>
              </a:rPr>
              <a:t>continuously evolving (Cagliano</a:t>
            </a:r>
            <a:r>
              <a:rPr b="0" i="1" lang="en-GB" sz="2000" spc="-1" strike="noStrike">
                <a:solidFill>
                  <a:srgbClr val="464653"/>
                </a:solidFill>
                <a:latin typeface="Gill Sans MT"/>
              </a:rPr>
              <a:t> et al</a:t>
            </a:r>
            <a:r>
              <a:rPr b="0" lang="en-GB" sz="2000" spc="-1" strike="noStrike">
                <a:solidFill>
                  <a:srgbClr val="464653"/>
                </a:solidFill>
                <a:latin typeface="Gill Sans MT"/>
              </a:rPr>
              <a:t>., 2003) and even now generalizable evidence is lacking.</a:t>
            </a:r>
            <a:endParaRPr b="0" lang="en-US" sz="20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64653"/>
                </a:solidFill>
                <a:latin typeface="Gill Sans MT"/>
              </a:rPr>
              <a:t>determinants of B2C online-selling require further deliverations</a:t>
            </a:r>
            <a:endParaRPr b="0" lang="en-US" sz="20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64653"/>
                </a:solidFill>
                <a:latin typeface="Gill Sans MT"/>
              </a:rPr>
              <a:t>Limitations of online selling should be known </a:t>
            </a:r>
            <a:r>
              <a:rPr b="0" lang="en-US" sz="2100" spc="-1" strike="noStrike">
                <a:solidFill>
                  <a:srgbClr val="464653"/>
                </a:solidFill>
                <a:latin typeface="Gill Sans MT"/>
              </a:rPr>
              <a:t>	</a:t>
            </a:r>
            <a:r>
              <a:rPr b="0" lang="en-US" sz="2100" spc="-1" strike="noStrike">
                <a:solidFill>
                  <a:srgbClr val="464653"/>
                </a:solidFill>
                <a:latin typeface="Gill Sans MT"/>
              </a:rPr>
              <a:t>	</a:t>
            </a:r>
            <a:br>
              <a:rPr sz="2100"/>
            </a:br>
            <a:r>
              <a:rPr b="0" lang="en-US" sz="2100" spc="-1" strike="noStrike">
                <a:solidFill>
                  <a:srgbClr val="464653"/>
                </a:solidFill>
                <a:latin typeface="Gill Sans MT"/>
              </a:rPr>
              <a:t> </a:t>
            </a:r>
            <a:endParaRPr b="0" lang="en-US" sz="2100" spc="-1" strike="noStrike">
              <a:solidFill>
                <a:srgbClr val="464653"/>
              </a:solidFill>
              <a:latin typeface="Gill Sans MT"/>
            </a:endParaRPr>
          </a:p>
        </p:txBody>
      </p:sp>
      <p:sp>
        <p:nvSpPr>
          <p:cNvPr id="1072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7A754-DAA7-4DF5-8D62-5F5E6C90093A}" type="slidenum">
              <a:rPr b="0" i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"/>
          <p:cNvSpPr txBox="1"/>
          <p:nvPr/>
        </p:nvSpPr>
        <p:spPr>
          <a:xfrm>
            <a:off x="30492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sale of information, goods and services through the Interne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0920" indent="-2509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interconnecting and interrelating millions of consumers and firm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0920" indent="-2509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enables marketing communications to become interactiv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0920" indent="-2509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the size of the potential marke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0920" indent="-2509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The behavioural pattern of custome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0920" indent="-2509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technological infrastructur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03640" indent="-2509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64653"/>
                </a:solidFill>
                <a:latin typeface="Gill Sans MT"/>
              </a:rPr>
              <a:t>broadband penetration rate</a:t>
            </a:r>
            <a:endParaRPr b="0" lang="en-US" sz="2000" spc="-1" strike="noStrike">
              <a:solidFill>
                <a:srgbClr val="464653"/>
              </a:solidFill>
              <a:latin typeface="Gill Sans MT"/>
            </a:endParaRPr>
          </a:p>
          <a:p>
            <a:pPr marL="250920" indent="-2509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legal framework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03640" indent="-2509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64653"/>
                </a:solidFill>
                <a:latin typeface="Gill Sans MT"/>
              </a:rPr>
              <a:t>degree of involvement of the public authorities in framing legal framework</a:t>
            </a:r>
            <a:endParaRPr b="0" lang="en-US" sz="2000" spc="-1" strike="noStrike">
              <a:solidFill>
                <a:srgbClr val="464653"/>
              </a:solidFill>
              <a:latin typeface="Gill Sans MT"/>
            </a:endParaRPr>
          </a:p>
          <a:p>
            <a:pPr lvl="1" marL="503640" indent="-2509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64653"/>
                </a:solidFill>
                <a:latin typeface="Gill Sans MT"/>
              </a:rPr>
              <a:t>policies that favor its development</a:t>
            </a:r>
            <a:endParaRPr b="0" lang="en-US" sz="2000" spc="-1" strike="noStrike">
              <a:solidFill>
                <a:srgbClr val="464653"/>
              </a:solidFill>
              <a:latin typeface="Gill Sans MT"/>
            </a:endParaRPr>
          </a:p>
          <a:p>
            <a:pPr lvl="1" marL="503640" indent="-2509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64653"/>
                </a:solidFill>
                <a:latin typeface="Gill Sans MT"/>
              </a:rPr>
              <a:t>legal, fiscal</a:t>
            </a:r>
            <a:endParaRPr b="0" lang="en-US" sz="2000" spc="-1" strike="noStrike">
              <a:solidFill>
                <a:srgbClr val="464653"/>
              </a:solidFill>
              <a:latin typeface="Gill Sans MT"/>
            </a:endParaRPr>
          </a:p>
        </p:txBody>
      </p:sp>
      <p:sp>
        <p:nvSpPr>
          <p:cNvPr id="1074" name="Footer Placeholder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85257-AD91-4EAE-A2F9-69353ED79AD4}" type="slidenum">
              <a:rPr b="0" i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685800" y="318960"/>
            <a:ext cx="7083360" cy="1114560"/>
          </a:xfrm>
          <a:prstGeom prst="rect">
            <a:avLst/>
          </a:prstGeom>
          <a:noFill/>
          <a:ln w="0">
            <a:noFill/>
          </a:ln>
        </p:spPr>
        <p:txBody>
          <a:bodyPr tIns="15228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464653"/>
                </a:solidFill>
                <a:latin typeface="Bookman Old Style"/>
              </a:rPr>
              <a:t>Driving Factors of B2C online-selling</a:t>
            </a:r>
            <a:br>
              <a:rPr sz="2800"/>
            </a:br>
            <a:endParaRPr b="0" lang="en-US" sz="28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464653"/>
                </a:solidFill>
                <a:latin typeface="Bookman Old Style"/>
              </a:rPr>
              <a:t>Driving Factors of B2C online-selling</a:t>
            </a:r>
            <a:r>
              <a:rPr b="1" lang="en-US" sz="2600" spc="-1" strike="noStrike">
                <a:solidFill>
                  <a:srgbClr val="464653"/>
                </a:solidFill>
                <a:latin typeface="Bookman Old Style"/>
              </a:rPr>
              <a:t>..contd..</a:t>
            </a:r>
            <a:endParaRPr b="0" lang="en-US" sz="26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7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legal framework ..contd..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14440" indent="-2563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464653"/>
                </a:solidFill>
                <a:latin typeface="Gill Sans MT"/>
              </a:rPr>
              <a:t>consumer protection</a:t>
            </a:r>
            <a:endParaRPr b="0" lang="en-US" sz="1700" spc="-1" strike="noStrike">
              <a:solidFill>
                <a:srgbClr val="464653"/>
              </a:solidFill>
              <a:latin typeface="Gill Sans MT"/>
            </a:endParaRPr>
          </a:p>
          <a:p>
            <a:pPr lvl="1" marL="514440" indent="-2563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64653"/>
                </a:solidFill>
                <a:latin typeface="Gill Sans MT"/>
              </a:rPr>
              <a:t>Privacy policy (information about individuals can be combined and integrated with information obtained from conventional physical channels)</a:t>
            </a:r>
            <a:endParaRPr b="0" lang="en-US" sz="1800" spc="-1" strike="noStrike">
              <a:solidFill>
                <a:srgbClr val="464653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The firm’s business strategy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14440" indent="-2563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Gill Sans MT"/>
              </a:rPr>
              <a:t>firm’s internal environment</a:t>
            </a:r>
            <a:endParaRPr b="0" lang="en-US" sz="1800" spc="-1" strike="noStrike">
              <a:solidFill>
                <a:srgbClr val="464653"/>
              </a:solidFill>
              <a:latin typeface="Gill Sans MT"/>
            </a:endParaRPr>
          </a:p>
          <a:p>
            <a:pPr lvl="1" marL="514440" indent="-2563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Gill Sans MT"/>
              </a:rPr>
              <a:t>decision to adopt online-selling as a strategy</a:t>
            </a:r>
            <a:endParaRPr b="0" lang="en-US" sz="1800" spc="-1" strike="noStrike">
              <a:solidFill>
                <a:srgbClr val="464653"/>
              </a:solidFill>
              <a:latin typeface="Gill Sans MT"/>
            </a:endParaRPr>
          </a:p>
          <a:p>
            <a:pPr lvl="1" marL="514440" indent="-2563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Gill Sans MT"/>
              </a:rPr>
              <a:t>consumer empowerment (information on product features, price comparisons, etc.)</a:t>
            </a:r>
            <a:endParaRPr b="0" lang="en-US" sz="1800" spc="-1" strike="noStrike">
              <a:solidFill>
                <a:srgbClr val="464653"/>
              </a:solidFill>
              <a:latin typeface="Gill Sans MT"/>
            </a:endParaRPr>
          </a:p>
          <a:p>
            <a:pPr lvl="1" marL="514440" indent="-2563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Gill Sans MT"/>
              </a:rPr>
              <a:t>identifying the best products to satisfy their needs</a:t>
            </a:r>
            <a:endParaRPr b="0" lang="en-US" sz="1800" spc="-1" strike="noStrike">
              <a:solidFill>
                <a:srgbClr val="464653"/>
              </a:solidFill>
              <a:latin typeface="Gill Sans MT"/>
            </a:endParaRPr>
          </a:p>
          <a:p>
            <a:pPr lvl="1" marL="514440" indent="-2563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Gill Sans MT"/>
              </a:rPr>
              <a:t>evaluating their different purchase options</a:t>
            </a:r>
            <a:endParaRPr b="0" lang="en-US" sz="1800" spc="-1" strike="noStrike">
              <a:solidFill>
                <a:srgbClr val="464653"/>
              </a:solidFill>
              <a:latin typeface="Gill Sans MT"/>
            </a:endParaRPr>
          </a:p>
          <a:p>
            <a:pPr lvl="1" marL="514440" indent="-2563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Gill Sans MT"/>
              </a:rPr>
              <a:t>intervening in the design of the value proposition</a:t>
            </a:r>
            <a:endParaRPr b="0" lang="en-US" sz="1800" spc="-1" strike="noStrike">
              <a:solidFill>
                <a:srgbClr val="464653"/>
              </a:solidFill>
              <a:latin typeface="Gill Sans MT"/>
            </a:endParaRPr>
          </a:p>
          <a:p>
            <a:pPr lvl="1" marL="514440" indent="-2563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Gill Sans MT"/>
              </a:rPr>
              <a:t>online price levels compared to traditional form of sale</a:t>
            </a:r>
            <a:endParaRPr b="0" lang="en-US" sz="1800" spc="-1" strike="noStrike">
              <a:solidFill>
                <a:srgbClr val="464653"/>
              </a:solidFill>
              <a:latin typeface="Gill Sans MT"/>
            </a:endParaRPr>
          </a:p>
          <a:p>
            <a:pPr lvl="1" marL="514440" indent="-2563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Gill Sans MT"/>
              </a:rPr>
              <a:t>product differentiation, brand awareness and reputation from online users reviews</a:t>
            </a:r>
            <a:endParaRPr b="0" lang="en-US" sz="1800" spc="-1" strike="noStrike">
              <a:solidFill>
                <a:srgbClr val="464653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9" name="Footer Placeholder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D7CCB-C5D6-478A-B83A-49C6A7D45246}" type="slidenum">
              <a:rPr b="0" i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464653"/>
                </a:solidFill>
                <a:latin typeface="Bookman Old Style"/>
              </a:rPr>
              <a:t>Driving Factors of B2C online-selling</a:t>
            </a:r>
            <a:r>
              <a:rPr b="1" lang="en-US" sz="2600" spc="-1" strike="noStrike">
                <a:solidFill>
                  <a:srgbClr val="464653"/>
                </a:solidFill>
                <a:latin typeface="Bookman Old Style"/>
              </a:rPr>
              <a:t>..contd..</a:t>
            </a:r>
            <a:endParaRPr b="0" lang="en-US" sz="26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82" name=""/>
          <p:cNvSpPr txBox="1"/>
          <p:nvPr/>
        </p:nvSpPr>
        <p:spPr>
          <a:xfrm>
            <a:off x="457200" y="1066320"/>
            <a:ext cx="8229600" cy="493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The firm’s business strategy</a:t>
            </a:r>
            <a:r>
              <a:rPr b="1" lang="en-IN" sz="2000" spc="-1" strike="noStrike">
                <a:solidFill>
                  <a:srgbClr val="000000"/>
                </a:solidFill>
                <a:latin typeface="Gill Sans MT"/>
              </a:rPr>
              <a:t>..contd.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64653"/>
                </a:solidFill>
                <a:latin typeface="Gill Sans MT"/>
              </a:rPr>
              <a:t>product information, </a:t>
            </a:r>
            <a:endParaRPr b="0" lang="en-US" sz="17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64653"/>
                </a:solidFill>
                <a:latin typeface="Gill Sans MT"/>
              </a:rPr>
              <a:t>website design, </a:t>
            </a:r>
            <a:endParaRPr b="0" lang="en-US" sz="17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64653"/>
                </a:solidFill>
                <a:latin typeface="Gill Sans MT"/>
              </a:rPr>
              <a:t>customer service, </a:t>
            </a:r>
            <a:endParaRPr b="0" lang="en-US" sz="17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64653"/>
                </a:solidFill>
                <a:latin typeface="Gill Sans MT"/>
              </a:rPr>
              <a:t>reliability and speed of delivery, </a:t>
            </a:r>
            <a:endParaRPr b="0" lang="en-US" sz="17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64653"/>
                </a:solidFill>
                <a:latin typeface="Gill Sans MT"/>
              </a:rPr>
              <a:t>brand image, </a:t>
            </a:r>
            <a:endParaRPr b="0" lang="en-US" sz="17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64653"/>
                </a:solidFill>
                <a:latin typeface="Gill Sans MT"/>
              </a:rPr>
              <a:t>facilities for making orders, </a:t>
            </a:r>
            <a:endParaRPr b="0" lang="en-US" sz="17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64653"/>
                </a:solidFill>
                <a:latin typeface="Gill Sans MT"/>
              </a:rPr>
              <a:t>loyalty programs, </a:t>
            </a:r>
            <a:endParaRPr b="0" lang="en-US" sz="17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64653"/>
                </a:solidFill>
                <a:latin typeface="Gill Sans MT"/>
              </a:rPr>
              <a:t>personalization of the communication, </a:t>
            </a:r>
            <a:endParaRPr b="0" lang="en-US" sz="17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64653"/>
                </a:solidFill>
                <a:latin typeface="Gill Sans MT"/>
              </a:rPr>
              <a:t>switching costs</a:t>
            </a:r>
            <a:endParaRPr b="0" lang="en-US" sz="17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653"/>
                </a:solidFill>
                <a:latin typeface="Gill Sans MT"/>
              </a:rPr>
              <a:t>benefits of convenience provided</a:t>
            </a:r>
            <a:endParaRPr b="0" lang="en-US" sz="16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653"/>
                </a:solidFill>
                <a:latin typeface="Gill Sans MT"/>
              </a:rPr>
              <a:t>Perception about financial data security (fraudulent use of credit cards)</a:t>
            </a:r>
            <a:endParaRPr b="0" lang="en-US" sz="16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winning the consumer’s confidence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3" name="Footer Placeholder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CF11E-36E7-4F4A-875A-6233BE2CCD77}" type="slidenum">
              <a:rPr b="0" i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464653"/>
                </a:solidFill>
                <a:latin typeface="Bookman Old Style"/>
              </a:rPr>
              <a:t>Driving Factors of B2C online-selling</a:t>
            </a:r>
            <a:r>
              <a:rPr b="1" lang="en-US" sz="2600" spc="-1" strike="noStrike">
                <a:solidFill>
                  <a:srgbClr val="464653"/>
                </a:solidFill>
                <a:latin typeface="Bookman Old Style"/>
              </a:rPr>
              <a:t>..contd..</a:t>
            </a:r>
            <a:endParaRPr b="0" lang="en-US" sz="26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86" name="Footer Placeholder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7CB81-B931-40CF-B458-4E0F5F0B3B0A}" type="slidenum">
              <a:rPr b="0" i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8" name="Objeto 2" descr=""/>
          <p:cNvPicPr/>
          <p:nvPr/>
        </p:nvPicPr>
        <p:blipFill>
          <a:blip r:embed="rId1"/>
          <a:srcRect l="0" t="0" r="0" b="-251"/>
          <a:stretch/>
        </p:blipFill>
        <p:spPr>
          <a:xfrm>
            <a:off x="685800" y="1143000"/>
            <a:ext cx="76960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464653"/>
                </a:solidFill>
                <a:latin typeface="Bookman Old Style"/>
              </a:rPr>
              <a:t>Driving Factors of B2C online-selling</a:t>
            </a:r>
            <a:r>
              <a:rPr b="1" lang="en-US" sz="2600" spc="-1" strike="noStrike">
                <a:solidFill>
                  <a:srgbClr val="464653"/>
                </a:solidFill>
                <a:latin typeface="Bookman Old Style"/>
              </a:rPr>
              <a:t>..contd..</a:t>
            </a:r>
            <a:endParaRPr b="0" lang="en-US" sz="26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9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Summary from empirical analysi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Gill Sans MT"/>
              </a:rPr>
              <a:t>influence of a marketing factor from the Internet firms’ competitive environment</a:t>
            </a:r>
            <a:endParaRPr b="0" lang="en-US" sz="20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Gill Sans MT"/>
              </a:rPr>
              <a:t>legal environment, </a:t>
            </a:r>
            <a:endParaRPr b="0" lang="en-US" sz="20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Gill Sans MT"/>
              </a:rPr>
              <a:t>their value proposition </a:t>
            </a:r>
            <a:endParaRPr b="0" lang="en-US" sz="20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Gill Sans MT"/>
              </a:rPr>
              <a:t>the technological infrastructure </a:t>
            </a:r>
            <a:endParaRPr b="0" lang="en-US" sz="20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Gill Sans MT"/>
              </a:rPr>
              <a:t>adoption of broadband technology</a:t>
            </a:r>
            <a:endParaRPr b="0" lang="en-US" sz="20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Gill Sans MT"/>
              </a:rPr>
              <a:t>legal framework of consumer protection on the Internet</a:t>
            </a:r>
            <a:endParaRPr b="0" lang="en-US" sz="20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Gill Sans MT"/>
              </a:rPr>
              <a:t>differentiation strategy</a:t>
            </a:r>
            <a:endParaRPr b="0" lang="en-US" sz="20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Gill Sans MT"/>
              </a:rPr>
              <a:t>price leadership strategy</a:t>
            </a:r>
            <a:endParaRPr b="0" lang="en-US" sz="2000" spc="-1" strike="noStrike">
              <a:solidFill>
                <a:srgbClr val="464653"/>
              </a:solidFill>
              <a:latin typeface="Gill Sans MT"/>
            </a:endParaRPr>
          </a:p>
        </p:txBody>
      </p:sp>
      <p:sp>
        <p:nvSpPr>
          <p:cNvPr id="1091" name="Footer Placeholder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AB918-4AF6-4843-A8DF-469A69DF2DC1}" type="slidenum">
              <a:rPr b="0" i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2T00:21:47Z</dcterms:created>
  <dc:creator>RGPlatt</dc:creator>
  <dc:description/>
  <dc:language>en-US</dc:language>
  <cp:lastModifiedBy>Sanjay</cp:lastModifiedBy>
  <dcterms:modified xsi:type="dcterms:W3CDTF">2013-04-12T03:07:48Z</dcterms:modified>
  <cp:revision>453</cp:revision>
  <dc:subject>Awad 3rd ed</dc:subject>
  <dc:title>The Dawn of a Maturing Industr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3</vt:r8>
  </property>
</Properties>
</file>